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E8F10-A5E6-4772-B612-BE836BFEF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9795-14A6-4DE3-8EDD-ABD92732E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7C5F4-5027-4192-A470-7C92E0BDF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4F8B1-1880-46BF-85DF-4210C6C64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CC5B5-76A9-4CCE-BCCC-D1C7302151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BD36B-A7F0-42EE-B257-4012E6B8F1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BE456-7A26-47A8-963F-D54007411F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ABC0F-0C9B-490C-9A36-FD85569A53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DD03D-B607-412E-9207-334096A7C0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0194A-3677-430C-BF24-8FE1D0D109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F6C15-CC65-459C-8DEE-26EACD34D3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29753-F72F-410D-995D-01DAD886A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21216-1450-4660-8FEA-DBFE109BD0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68310-8005-412F-A0E3-B23A2DF34F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715B5-7580-4C04-89A9-B888635D80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73109-4C87-4CD7-B1D2-335BC1A7AA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E49B8-1FAE-435E-AF8C-97EA9CCD6E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F0B86-1173-4287-99B8-7B3CF3540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8BDE-E078-4D6E-AA81-8AE160ABB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88BCF-E11F-4675-9B04-F446907A1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C27BC-157F-4DB8-A6F1-523B1EFA7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6340E-B57A-4591-9233-D83AEAC36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BDF85-BCDD-486B-BDCD-CA5321BEC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1242-194E-410B-A9BF-7CC0EA7D9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2081E56-B65A-4873-8100-BB71FF7A443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601F789-31D3-4CA3-B9F7-5C7850956C6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219640" y="301680"/>
            <a:ext cx="3567240" cy="53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572000" y="490680"/>
            <a:ext cx="3567240" cy="536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49159AA-FC02-43AE-8D52-4BEF329A701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29BDD7F-903F-414B-9874-9BD5FF715A1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3D1C-9204-46F7-84CE-88F1CEA441BD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7-07-03T09:03:33Z</dcterms:modified>
  <cp:revision>336</cp:revision>
  <dc:subject/>
  <dc:title>No Slide Title</dc:title>
</cp:coreProperties>
</file>